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147-CA2B-4CFA-9A7C-54204D9E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3FA-CA0E-450D-8778-2429C7FF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16C-7D4E-4DC0-9F95-DEE5CE58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8D8-D607-469F-A621-250A0539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03E2-6387-4A98-A844-D0269D24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0AFF-BAC3-4449-AC4E-4D22B1C3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2132-F2E9-4B69-A5E6-0BFD445F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8AFE-5804-4771-BAED-CC60F889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A2D7-BAD1-46CF-A35C-C8ADD022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9E7B-B9BE-4DD3-9B90-785F13E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BE02-958C-47FA-B954-29D4E42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6E6-A7E3-4EC8-AA9A-02059982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E524-6B92-4722-84F0-277C8A6A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D4E8-E0CF-4DB3-9567-2253053B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F5C9-0916-42E9-A373-53198594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B36-5577-4AA8-BF28-F378ED58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D6AF-6F45-46DB-86EC-DADDB044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808-B392-4541-931F-162ED997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2CF-56FC-4B77-8B2A-93108356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41D-0651-4E39-9257-C2CCAB23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7CF-18F3-4B31-A629-3AF499B7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78A-A0E4-4397-A6D7-BC32F57E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2A9-E2A0-46CE-BD55-236A89E2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CB8-D893-4251-B401-5C5FDCF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34F5-D23C-4B27-8979-26B99BE1B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B476-2868-4191-A3A7-262108C82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696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квариум - модель искусственно созданной экосистемы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523880" y="990720"/>
            <a:ext cx="664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дметы ухода за обитателям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828800" y="5486400"/>
            <a:ext cx="540072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р: студентка 636 группы Клик Алеся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438640" cy="312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Установка аквариум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ромой и насыпь грав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только аквариум будет правильно установлен, нужно сразу насыпать гравий. Удостоверься, что гравий чист, тщательно вымой его проточной водой. Используй сито: наполни его гравием и подставь под струю воды. Затем осторожно пересыпь гравий из сита в аквариу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сыпай гравий осторожно. Помни, что тебе нужно создать всего лишь тонкий слой на д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Залей в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едующий шаг – добавление воды в аквариум. Сначала нужно заполнить его наполовину. Для этого используй большой кувш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слони к стенке аквариума тарелку и наливай воду так, чтобы она стекла по ней. Так ты не потревожишь грав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Установка аквариум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обавь дехлоринат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опроводная вода в аквариуме непригодна для золотых рыбок из-за высокого содержания хл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этому придется добавить в нее химическое вещество – дехлоринатор. Его можно приобрести в зоомагази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щательно следуй инструкции на упаковк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крашение аквариу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украсить аквариум можно поместить в него цветные камушки, декоративные приспособления или пластиковые растения. Лучше покупать их в зоо магазине, так как камешки с пляжа могут быть с острыми краями или содержать ядовитые ве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стиковые растения могут оказаться менее вредными, так как настоящие – рыбка может съе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Установка аквариум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одсоедини фильт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да в аквариуме должна оставаться чистой и свежей. Этого достигают, используя специальный фильтр – самую важную часть аквариума. Когда ты будешь покупать аквариум, продавец посоветует, какой подходящий фильтр лучше выбр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анови фильтр и долей оставшуюся воду. Включи фильтр и дай ему поработать неделю, перед тем, как запускать рыб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3526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апускаем золотую рыбку в аквариум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вы не дадите рыбке привыкнуть к температуре воды в новом аквариуме, она может умереть от ш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. Опустите пакет в в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зоомагазине рыбку поместят  в пластиковый пакет, наполовину заполненный водой. Ее температура будет отлична от температуры воды в аквариуме, поэтому рыбке нужно дать время приспособи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этого сначала положите ее в аквариум прямо в пакете. Если ваш аквариум оборудован освещением – погасите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124080" y="4440240"/>
            <a:ext cx="312444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Запускаем золотую рыбку в аквариу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йте рыбке самой выплыть в аквариум. Не выбрасывайте ее в в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2. Выпустите рыбку из пак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час температура воды в пакете сравняется с температурой воды в аквариуме. Аккуратно развяжите пакет и выпустите рыбку наружу. Включите свет и оставьте его на весь д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3. Корм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ключать свет в одно и то же время, что бы рыбка привыкла к этому. По прошествии недели начните кормить рыбку, подсыпая ей еду небольшими щепотками. Если рыбка не съела все за 5 мин., значит вы перекармливаете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ы хотите иметь больше одной рыбки, запускайте новых рыб в акв – м с интервалом в неде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219060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рм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ду рыбкам давай небольшими порциями, чтобы они ее съедали «на лету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ая вкусная еда для рыб – живой корм: мотыль, дафнии, циклопы. Сухой корм лучше чередовать с жив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ин- два раза в день рыб следует покорм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33920" y="4114800"/>
            <a:ext cx="2057400" cy="1539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333440" cy="2438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086600" y="3505320"/>
            <a:ext cx="124776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олезни рыб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Сакролег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рибок –белые комочки на тел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Ихтиофтириу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бугорки на те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Оодино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л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Туберкулез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зъерошенная чешу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Воспаление желудка и кишеч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Существуют рыбьи лека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Морские рыбки"/>
          <p:cNvPicPr/>
          <p:nvPr/>
        </p:nvPicPr>
        <p:blipFill>
          <a:blip r:embed="rId1"/>
          <a:stretch/>
        </p:blipFill>
        <p:spPr>
          <a:xfrm>
            <a:off x="6019920" y="4495680"/>
            <a:ext cx="2590560" cy="17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Размноже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2 способ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Живородящ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- Икромечущ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Некоторые особи выхаживают во р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ыбы делают себе гнезда из п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цы некоторых лабиринтовых рыб сооружают у поверхности воды гнездо из пены. Туда самки мечут икру, а затем родители защищают свое пенное гнездо до выклевывания и/или свободного плавания лич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666880" y="4662360"/>
            <a:ext cx="3505320" cy="2149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172200" y="533520"/>
            <a:ext cx="243828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6600" y="410760"/>
            <a:ext cx="79596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Указания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ащивайте мальков лишь в том случае, если вам требуется сохранить поголовье в собственном аквариуме или если есть в кругу  ваших знакомых появились желающие завести у себя подобных ры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ащивание же большого количества молоди, для которых впоследствии не будет достаточно места или на которых не будет покупателей, бессмысленно и граничит с мучением живо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505320" cy="20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-609840"/>
            <a:ext cx="845820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Для аквариума тебе необходимо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греватель, термометр, лампа, скребок для чистки стекол, сачек, сифон, термостат, компрессо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ф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ботает по принципу пылесоса, отсасывая грязь с гравия и растений с аквариу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ка рефлектора – регулирует степень освещ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греват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ддерживает оптимальную для ры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рмометр – показывает уровень температуры воды в аквариу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ребком для чистки стек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ы замечательно очистите стенки аквариума от нал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моста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ибор для поддержания темпера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ресс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это совокупность устройств, необходимых для получения сжатого воздуха или др. г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квариумист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4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квариу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от греч. «аква» 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в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мале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ьки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скусственный водо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настоящий уголок подводного царства, его обитатели требуют правильного ух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124080" y="4361040"/>
            <a:ext cx="2743200" cy="19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Значение аквариума в ДОУ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вариумы оказывают релаксационное воздействие на детей, привлекают их вним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их помощью возникает возможность организации наблюдения за обитателями искусственно созданной экосистем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91640" y="548640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733920" y="3581280"/>
            <a:ext cx="190476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же нужно знать, чтобы содержать в группе аквариум?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Прежде всего аквариум должен быть правильно оборудован и засажен достаточным количеством рас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Нужно наладить также правильное освещение ( при избытке вода зеленеет и мутнеет, а при недостатке – дно и стенки аквариума покрываются коричневыми водоросля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ледить, чтобы в нем не было резких колебаний темпера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строе охлаждение воды даже на 4-5 градусов ослабляет рыб, и они заболев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4648320"/>
            <a:ext cx="24382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новид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ный телеско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857680" cy="2210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114800" y="167652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ыба попуг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43600" y="2536920"/>
            <a:ext cx="266688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-417492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лотая рыб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581280" cy="1790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880720" y="160020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пистограмма Рамире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27432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ляр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962160" cy="1981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48440" y="1828800"/>
            <a:ext cx="42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еригоплихт парчов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41911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льз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Сажать только что купленных рыб в уже заселенный аквариум. Лучше 2-3 недели выдержать их на карантине в другом аквариу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льзя перемещать аквариум, наполненный во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Водный мир"/>
          <p:cNvPicPr/>
          <p:nvPr/>
        </p:nvPicPr>
        <p:blipFill>
          <a:blip r:embed="rId1"/>
          <a:stretch/>
        </p:blipFill>
        <p:spPr>
          <a:xfrm>
            <a:off x="1219320" y="4167360"/>
            <a:ext cx="2590560" cy="1734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Морские рыбки"/>
          <p:cNvPicPr/>
          <p:nvPr/>
        </p:nvPicPr>
        <p:blipFill>
          <a:blip r:embed="rId2"/>
          <a:stretch/>
        </p:blipFill>
        <p:spPr>
          <a:xfrm>
            <a:off x="5867280" y="4191120"/>
            <a:ext cx="25146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квариумы бывают разными по форме: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ямоуголь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шести- и восьмигран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круг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асивы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зкие и высокие аквариу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так называемые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квариу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шир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у которых высота значительно превышает шир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ьшую популярность завоевал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ямоугольные аквариу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тандартного типа, ширина которой равна высоте, а длина превышает ширину в два раза. Эти аквариумы, как правило, из стекла в металлическом каркасе (от 40 до 100 л. Вод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35304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1120" y="410760"/>
            <a:ext cx="795816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 самом начал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вариум и фильтр должны быть готовы за неделю до приобретения рыб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Когда аквариум подготовлен, ты можешь выбр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ыбок и пересадить их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Место для аквариума нужно выбрать такое, чтобы на него не падали прямые солнечные лу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Вместе с тем он не должен быть совсем лишен св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Его можно расположить в простенке между окнами или у противоположной окну стены на прочном столе или тумбоч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Аквариум следует закрывать стеклом (не полностью), что бы вода не запылилась раньше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828800" cy="12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7T07:35:0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